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5C1-C057-4BD5-86E2-7AEE06A9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4D7-974E-4CB0-B010-5E105855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8B9-3A38-417F-B102-A5CAFF2C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D69-273E-41F8-8103-C8359425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9C5-8875-4117-AA92-26AA289A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A89-5866-405D-BDAD-94F83C90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569-6664-4C6C-8B2B-1DBA66AF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8D0-5D30-4754-99BD-870AF14E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AF3-0AA4-4785-8D0A-33D4110C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FA4-4853-4E3B-A90A-C59967AF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6D8-3CA2-4F5A-99F4-C97C20DC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A8D-1AAA-40FF-923A-DD0E1565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1870-C3B7-494F-8C70-5D22F8603D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JLubecka\Ustawienia lokalne\Temporary Internet Files\Content.IE5\AJY4M1XL\Witos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11280" y="1557360"/>
            <a:ext cx="7704000" cy="3035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Utworzona w 28.10.1918 roku w Krakowie jako efekt inicjatyw politycznych tzw. Koła Polskiego w parlamencie Austro-Węgi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W jej skład weszli m.in. 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incenty Witos</a:t>
            </a:r>
            <a:r>
              <a:rPr b="0" lang="pl-PL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i Ignacy Daszyńs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Po wycofaniu się wojsk austriackich od 31.10.1918 roku przejęła faktyczną władzę w Małopolsce Zachodni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5:21Z</dcterms:created>
  <dc:creator>rena</dc:creator>
  <dc:description/>
  <dc:language>en-US</dc:language>
  <cp:lastModifiedBy>IB</cp:lastModifiedBy>
  <dcterms:modified xsi:type="dcterms:W3CDTF">2013-03-14T17:24:04Z</dcterms:modified>
  <cp:revision>6</cp:revision>
  <dc:subject/>
  <dc:title>PowerPoint Presentation</dc:title>
</cp:coreProperties>
</file>